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05F-0160-497B-A70B-CD7D58A9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61A-8B58-4C8E-90AC-B4A75647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472-3901-4A75-8E70-20A0D699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CF6-4CC1-41AC-BE63-4A80E1C8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52E6-0E87-4F5A-9065-B6E0D6A4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CACE-263A-4070-AB2D-FFF8A6F6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A56A-7E43-416D-844B-02BFFCA2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FEEA-526B-4B9F-95B9-C44D8948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BADD-7863-45CA-9B7E-FA02223B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FE00-B00C-4AA7-9D51-CE2C9343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D5BB-0303-4FF8-99ED-6BBC10C2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FFC-9DCB-4BCA-BB8B-123FA1B3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24EE-C068-4ACD-90A2-54FD1CA5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1A73-2654-40F6-A377-FD34A3B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3855-19A1-4780-8CFB-2386F7EB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65AD-C0EB-4C95-82BD-C349282B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7E06-2695-4B5E-BC25-0D8D01CF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D5B-7E38-4DBE-90CE-34A76E1D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E7B-1497-4050-A4D8-5A3379B7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FB2-A0FB-4DE9-B908-3D1BF7AF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898-22AC-44F4-96BB-CFA28E37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9AC-1A2D-48E2-885B-64721D83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A60-AD5D-497C-9ED6-500D727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ADB-D953-423F-BF2A-7BF9FE4D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375F-0549-4CA3-8794-8E7B2BE36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FB4E-AF33-43A8-9B5F-01344ECBD2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73e3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1" name="Oval 40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3" name="Oval 42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8" name="Oval 47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274f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40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1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6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5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1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2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7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2" name="Group 6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3" name="Freeform 7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6" name="Freeform 10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2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9" name="Oval 13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5" name="Oval 19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3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1" name="Freeform 25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7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4" name="Freeform 28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Oval 30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2" name="Oval 36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6" name="Group 40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7" name="Group 41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8" name="Freeform 42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4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1" name="Freeform 45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7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4" name="Oval 48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9" name="Group 53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0" name="Oval 54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Oval 55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Oval 56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3" name="Oval 57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8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5" name="Group 59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6" name="Freeform 60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2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9" name="Freeform 63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0" name="Freeform 64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5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2" name="Oval 66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7" name="Group 71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8" name="Oval 72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Oval 73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Oval 74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1" name="Oval 75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6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Text Box 77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Text Box 78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Text Box 79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Text Box 80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Text Box 81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Text Box 82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Text Box 83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4" name="AutoShape 88"/>
          <p:cNvCxnSpPr>
            <a:stCxn id="480" idx="3"/>
            <a:endCxn id="481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AutoShape 89"/>
          <p:cNvCxnSpPr>
            <a:stCxn id="481" idx="3"/>
            <a:endCxn id="482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6" name="AutoShape 90"/>
          <p:cNvCxnSpPr>
            <a:stCxn id="482" idx="3"/>
            <a:endCxn id="483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1111680" y="1629720"/>
            <a:ext cx="6437160" cy="1388160"/>
            <a:chOff x="1111680" y="1629720"/>
            <a:chExt cx="6437160" cy="1388160"/>
          </a:xfrm>
        </p:grpSpPr>
        <p:sp>
          <p:nvSpPr>
            <p:cNvPr id="500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Rectangle 11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307692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3154680" y="20700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4"/>
            <p:cNvSpPr/>
            <p:nvPr/>
          </p:nvSpPr>
          <p:spPr>
            <a:xfrm rot="3418800">
              <a:off x="3042000" y="17884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7" name="Group 15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8" name="Oval 16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Rectangle 17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Oval 19"/>
              <p:cNvSpPr/>
              <p:nvPr/>
            </p:nvSpPr>
            <p:spPr>
              <a:xfrm>
                <a:off x="487440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0"/>
            <p:cNvSpPr/>
            <p:nvPr/>
          </p:nvSpPr>
          <p:spPr>
            <a:xfrm rot="3418800">
              <a:off x="4692240" y="17884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3" name="Group 21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4" name="Oval 22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Rectangle 23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Oval 25"/>
              <p:cNvSpPr/>
              <p:nvPr/>
            </p:nvSpPr>
            <p:spPr>
              <a:xfrm>
                <a:off x="686196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6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9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6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3c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719e"/>
                </a:gs>
                <a:gs pos="100000">
                  <a:srgbClr val="22a2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b7dbd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ec7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976"/>
                </a:gs>
                <a:gs pos="100000">
                  <a:srgbClr val="dcca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7f742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9dd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4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85098"/>
                  </a:srgbClr>
                </a:gs>
                <a:gs pos="100000">
                  <a:srgbClr val="8c8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7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a093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8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1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85098"/>
                  </a:srgbClr>
                </a:gs>
                <a:gs pos="100000">
                  <a:srgbClr val="166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1976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5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8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85098"/>
                  </a:srgbClr>
                </a:gs>
                <a:gs pos="100000">
                  <a:srgbClr val="366d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3e7c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2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5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cfeb">
                    <a:alpha val="85098"/>
                  </a:srgbClr>
                </a:gs>
                <a:gs pos="100000">
                  <a:srgbClr val="5284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5e96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9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187280" y="254304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b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b33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f4e"/>
              </a:gs>
              <a:gs pos="50000">
                <a:srgbClr val="55aba9"/>
              </a:gs>
              <a:gs pos="100000">
                <a:srgbClr val="274f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5aba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e5d5b"/>
                </a:gs>
                <a:gs pos="50000">
                  <a:srgbClr val="55aba9"/>
                </a:gs>
                <a:gs pos="100000">
                  <a:srgbClr val="2e5d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47Z</dcterms:created>
  <dc:creator>Admin</dc:creator>
  <dc:description/>
  <dc:language>en-US</dc:language>
  <cp:lastModifiedBy>Anh Hung Pro</cp:lastModifiedBy>
  <dcterms:modified xsi:type="dcterms:W3CDTF">2016-09-08T14:58:29Z</dcterms:modified>
  <cp:revision>2</cp:revision>
  <dc:subject/>
  <dc:title>PowerPoint Template</dc:title>
</cp:coreProperties>
</file>